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BED-982A-4C90-BFC9-54EFCC69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54D-1916-4070-BD7E-AE2F784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434-15E1-49E9-8303-B2AA5390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7F4-1FBD-4D0F-BF56-8BB98B83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2E4-7412-4DFE-95CF-077A0E5F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A34-E69F-4D61-BFDE-F4EAE59B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4B7A-96C2-46E9-B96F-56760773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CA1-1EFE-4903-9AB7-9D79B16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DEA-8CFD-400B-93AE-6169E9AF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F6D-BFE3-4B2A-A317-5739A8F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8DF-F6B4-48E9-BE1E-5CED4349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C06-63E5-4EFC-B995-237C94FC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5A0-10DB-40E9-B5CC-655F47748B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Sigma 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ermutations and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3. A class of 12 students and a teacher are to go on a class trip.  A car will take four of the party, and the rest will go by bus.  In how many different ways can they all go on the trip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must go by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teacher is in the bus (fixed) so 8 spots in the bus rem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we’re selecting 8 of the 12 students to go in the bus with the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combina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same as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b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can go by either car or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. poss. combos = nbr combos if teacher is in car + if teacher if on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from (a))                          +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from (b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22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+ 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715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4. A buffet restaurant has a selection of six salads, four cold meat platters and seven cooked vegetables.  How many ways are there for a person to choose three salads, two types of cold meat and four vegetab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3 salads from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2 types of cold meat from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4 types of cooked vegetables from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poss. selection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 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6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×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4200 possible choices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. *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Scholarship type problem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the game of badminton a ‘singles’ match has two players – one against another;   and a doubles match has four players – two players against tw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f eight friends play badminton, how many different doubles and singles matches can be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singles match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2 from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 possible sing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doub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number of possible selections of 4 from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number of possible doubles games played by each group of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2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10 possible doubles 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Why divide by 2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213840"/>
            <a:ext cx="8839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. *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Scholarship type problem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the game of badminton a ‘singles’ match has two players – one against another;   and a doubles match has four players – two players against tw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f eight friends play badminton, how many different doubles and singles matches can be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singles match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2 from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 possible sing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doub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number of possible selections of 4 from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number of possible doubles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gam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played by each group of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2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10 possible doubles 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Why divide by 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213840"/>
            <a:ext cx="88394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5. *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Scholarship type problem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the game of badminton a ‘singles’ match has two players – one against another;   and a doubles match has four players – two players against two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f eight friends play badminton, how many different doubles and singles matches can be play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singles match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2 from 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 possible sing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doubles m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number of possible selections of 4 from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number of possible doubles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gam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played by each group of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× 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2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10 possible doubles m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Why divide by 2?   A: Because whenever you select </a:t>
            </a: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one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pair from each 4, you are also selecting </a:t>
            </a: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another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of the pairs – the other 2.  Hence by going </a:t>
            </a:r>
            <a:r>
              <a:rPr b="0" i="1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i="1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we actually get </a:t>
            </a: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wice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the number of possible doubles g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6. 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ustralian Mathematics Comp. type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2 people decide to play volleyball.  In how many ways can they be split up into two equal tea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team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(number of possible selections of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6 from 12)  /  2.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6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/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924 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462 possible ways of splitting into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teams of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 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Q:  Why divide by 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A:  Because the question asks how many ways there are off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splitting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 the 12 people into 2 teams,  not how many possible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Every time you split it, you get 2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7. 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ustralian Mathematics Comp. type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In how many ways can 10 different items be split up into two unequal se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unequal sets (i.e. every possible number except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10 + 45  +   120 + 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85 possible ways of splitting them into two unequal s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*sets of 6 or more are already covered  - e.g. you automatically select a set of 6 when you select 4 from 10, and a set of 7 when you select 3 from 10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8. The Department of Foreign Affairs has trained 30 linguists, 16 of whom are to be assigned to Germany and 14 to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 8 of the linguists refuse to go to France, in how many ways can the 30 linguists be assig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8 who won’t go to France MUST go to Germany  (fix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there are 22 people left.  Must select 8 for the remaining German positions. By doing this you automatically select the other 14 for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ways of selecting 8 from 22 to fill the remaining German positions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2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(same answer if you go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 2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19 770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(NCEA Excellence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, in addition to the 8 who refuse to go to France, 10 refuse to go to Germany, how many ways are there of assigning the 30 lingui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(NCEA Excellence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Department of Foreign Affairs has trained 30 linguists, 16 of whom are to be assigned to Germany and 14 to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If, in addition to the 8 who refuse to go to France, 10 refuse to go to Germany, how many ways are there of assigning the 30 lingui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8 who won’t go to France MUST go to Germany  (fix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10 who won’t go to Germany MUST go to France (fix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there are 12 people left  (30 – 8 – 10 = 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select 8 for the remaining German positions. By doing this you automatically select the other 4 for F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ways of selecting 8 from 12 to fill the remaining German positions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(same answer if you go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 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F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495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. 8.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ge 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59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 Museum: 149 Maori artifacts.  Selects 3 each month.  How many selections po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In factorial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187280" y="2276640"/>
                <a:ext cx="274968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5"/>
          <p:cNvSpPr/>
          <p:nvPr/>
        </p:nvSpPr>
        <p:spPr>
          <a:xfrm>
            <a:off x="470160" y="3460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6"/>
              <p:cNvSpPr txBox="1"/>
              <p:nvPr/>
            </p:nvSpPr>
            <p:spPr>
              <a:xfrm>
                <a:off x="1092240" y="3228840"/>
                <a:ext cx="2982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Rectangle 7"/>
          <p:cNvSpPr/>
          <p:nvPr/>
        </p:nvSpPr>
        <p:spPr>
          <a:xfrm>
            <a:off x="533520" y="5229360"/>
            <a:ext cx="53672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As an ordinary numb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4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540 274 possible sel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1"/>
              <p:cNvSpPr txBox="1"/>
              <p:nvPr/>
            </p:nvSpPr>
            <p:spPr>
              <a:xfrm>
                <a:off x="1908000" y="4221000"/>
                <a:ext cx="15573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46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. Couple has 13 friends; invites a different 4 each week.  How long to the nearest year till all possible groups sel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electing 4 from 13 each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7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715 weeks till all possible groups of 4 inv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2 week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years = 715 ÷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13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4 years (to nearest y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. There are 12 shirts on sale.  A man wants to buy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many poss. cho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792 choice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2 are too expens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ow selecting 5 from only 10 (2 ruled out).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252 choice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f he damages 1 so must buy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He MUST buy the 1 he damaged (decision made), so now selecting 4 from the other 11.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selections 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1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30 choice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9. How many selections of at least 2 objects can be made from 5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T LEAST 2 means selections of 2, 3, 4 or 5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selec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26 possible sel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0. 6 points on a circle.  Any 2 can be jo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different chords can be 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can be a chord between ANY 2 of the 6 points.  Think of as pairs of points (i.e. selections of 2 items from 6).  </a:t>
            </a:r>
            <a:r>
              <a:rPr b="0" i="1" lang="en-NZ" sz="2000" spc="-1" strike="noStrike">
                <a:solidFill>
                  <a:srgbClr val="ff0000"/>
                </a:solidFill>
                <a:latin typeface="Arial"/>
              </a:rPr>
              <a:t>Draw a circle and try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What the Q is really asking:  How many possible selections of 2 can be made from the 6 po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nswer: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15 possible chord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possible seg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Each chord in a circle forms 2 segments – one on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nbr of segments =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br of ch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0 segment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1. There are 7 candidates.  Can vote for up to 3 candidates for 3 vacancies.  In how many ways can a vote be ca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an vote for UP TO 3 candidates, so can also vote for just 1 candidate or for 2 candi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poss. selections of 1, 2 or 3 from 7 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63 ways of 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a valid vot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2. Elections are to be held for the School Common Room Committee.  Five students are to be elected.  The candidates are six female students and seven male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distinct committees can be e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13 candidates in total.  In how many ways can 5 be se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1287 distinct committe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How many distinct committees with two female and three male students can be el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2 female students from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re are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ways of selecting 3 male students from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poss. selections with 2F &amp; 3M students 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7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525 distinct committee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13. A class of 12 students and a teacher are to go on a class trip.  A car will take four of the party, and the rest will go by bus.  In how many different ways can they all go on the trip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must go by c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teacher is in the car (fixed) so 3 spots in car rem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we’re selecting 3 of the 12 students to go in the car with the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combina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3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same as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b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2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The teacher must go by b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teacher is in the bus (fixed) so 8 spots in the bus rem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o we’re selecting 8 of the 12 students to go in the bus with the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possible combinations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8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(same as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for b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4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Sigma: Ex 8.03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37:48Z</dcterms:created>
  <dc:creator>Jeremy Brocklehurst</dc:creator>
  <dc:description/>
  <dc:language>en-US</dc:language>
  <cp:lastModifiedBy>Jeremy Brocklehurst</cp:lastModifiedBy>
  <dcterms:modified xsi:type="dcterms:W3CDTF">2011-04-04T18:46:53Z</dcterms:modified>
  <cp:revision>46</cp:revision>
  <dc:subject>Year 13 Statistics &amp; Modelling</dc:subject>
  <dc:title>Sigma solutions</dc:title>
</cp:coreProperties>
</file>